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B41-9556-4BDF-B377-62581309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F04-742D-4F36-815E-51DC0CE4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DE7-B28F-4EF0-8552-A1ED2D42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685-1AC0-43DE-9C10-EC8DAA34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CA5-22B1-4ED4-B42C-5F67504E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CF3-7A4E-4845-8AD9-8E76473C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F3D-76AB-468C-8496-6BF4CD20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F46-1F18-4FFC-8BAA-027B3EBE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6AF-18BA-41C7-AC18-7D985B1E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B74-6ED0-4BDB-B3F9-DFB31D9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B4A-3587-4AF4-832B-64D11DD8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54E-741A-4A65-B411-878B9D76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D12C-739A-4CD2-A611-E6E018C6C7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О демонстрационном экзамене в рамках государственной итоговой аттестации на основе актуализированных ФГОС СПО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по программам среднего профессионального образов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Методический совет ПГ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3 мая 20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293"/>
                </a:solidFill>
                <a:latin typeface="Arial"/>
                <a:ea typeface="Times New Roman"/>
              </a:rPr>
              <a:t>Условия организации проведения Демонстрационного экзамена в процедуре ГИА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6.5 Демонстрационный экзамен предусматривает моделирование реальных производственных условий для решения выпускниками практических задач профессиональной деятельнос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6.6 Задания демонстрационного экзамена разрабатываются на основе профессиональных стандартов (при наличии)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и с учетом оценочных материалов (при наличии), разработанных сою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Особенности формирования комиссии ГЭК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лучае проведения демонстрационного экзамена в состав государственной экзаменационной комиссии входят также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ксперты союза «Агентство развития профессиональных сообществ и рабочих кадров «Молодые профессионалы (Ворлдскиллс Россия)» (п. 5.1 СТО ПГУ 1.05-20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Форматы демонстрационного экзамен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4" name="Объект 3" descr="https://academy-prof.ru/img/uploads1%20(16).png"/>
          <p:cNvPicPr/>
          <p:nvPr/>
        </p:nvPicPr>
        <p:blipFill>
          <a:blip r:embed="rId1"/>
          <a:stretch/>
        </p:blipFill>
        <p:spPr>
          <a:xfrm>
            <a:off x="1692360" y="162864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https://academy-prof.ru/img/uploads2_5.png"/>
          <p:cNvPicPr/>
          <p:nvPr/>
        </p:nvPicPr>
        <p:blipFill>
          <a:blip r:embed="rId1"/>
          <a:stretch/>
        </p:blipFill>
        <p:spPr>
          <a:xfrm>
            <a:off x="0" y="765000"/>
            <a:ext cx="9109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Документы по проведению Демонстрационного экзамена по стандартам Ворлдскиллс Россия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лекты оценочной документац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раструктурный лист для КОД 1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раструктурный лист для КОД 1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раструктурный лист для КОД 1.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раструктурный лист для КОД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Оценочные материалы включают комплекты оценочной документации</a:t>
            </a:r>
            <a:r>
              <a:rPr b="1" lang="ru-RU" sz="2800" spc="-1" strike="noStrike">
                <a:solidFill>
                  <a:srgbClr val="dfd293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Д № 2.1 - комплект, предусматривающий задание с максимально возможным баллом 100 для оценки знаний, умений и навыков по всем разделам Спецификации стандарта       компетенции «Бухгалтерский учет»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олжительностью 16 ч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Термины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Стандарт Ворлдскиллс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– документ, содержащий совокупность установленных Союзом обязательных правил и требований к мероприятию или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Компетен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- набор знаний и навыков в рамках Спецификации стандар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Паспорт компетенций (Skills Passport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документ о результатах демонстрационного экзамена, отражающий уровень компетенции студента или выпускника в соответствии со стандартами Ворлдскиллс Рос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dfd293"/>
                </a:solidFill>
                <a:latin typeface="Arial"/>
                <a:ea typeface="Times New Roman"/>
              </a:rPr>
              <a:t>Для образовательных организаций проведение аттестационных испытаний в формате демонстрационного экзамена:</a:t>
            </a:r>
            <a:br>
              <a:rPr sz="2800"/>
            </a:b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озможность объективно оценить содержание и качество образовательных програм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бъективно оценить материально-техническую баз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ть уровень квалификации преподавательского соста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озможность определения точек роста и дальнейшего развития в соответствии с актуальными требованиями международного рынка тр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dfd293"/>
                </a:solidFill>
                <a:latin typeface="Arial"/>
                <a:ea typeface="Times New Roman"/>
              </a:rPr>
              <a:t>О демонстрационном экзамене по стандартам Ворлдскиллс Россия</a:t>
            </a:r>
            <a:br>
              <a:rPr sz="3600"/>
            </a:b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юзом «Молодые профессионалы (Ворлдскиллс Россия)» проводится пилотная апробация демонстрационного экзамена по стандартам Ворлдскиллс Россия в рамках государственной итоговой аттес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293"/>
                </a:solidFill>
                <a:latin typeface="Arial"/>
                <a:ea typeface="Times New Roman"/>
              </a:rPr>
              <a:t>Список субъектов Российской Федерации на участие в проведении демонстрационного экзамена в 2019 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  <a:ea typeface="Times New Roman"/>
              </a:rPr>
              <a:t>году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сего подали заявки 71 субъ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Алтайский кра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 Амурская обла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 Архангельская обла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 Астраханская обла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5 Белгород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37 Пензен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WorldSkills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ждународное некоммерческое движение, созданное в 1946 год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ля повышения престижа рабочих профессий и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азвития профобразования путем проведения конкурсов профессионального мастер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293"/>
                </a:solidFill>
                <a:latin typeface="Arial"/>
                <a:ea typeface="Times New Roman"/>
              </a:rPr>
              <a:t>Выпускники, прошедшие аттестационные испытания в формате демонстрационного экзамена в соответствии со стандартами Ворлдскиллс Россия получают :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окумент, подтверждающий уровень профессиональных компетенций в соответствии со стандартами Ворлдскиллс Россия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Паспорт компетенций (Skills Pass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Вносятся в базу данных молодых профессионал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доступ к которому предоставляется всем ведущим предприятиям-работодателям, признавшим формат демонстрационного экзамена, для осуществления поиска и подбора персон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Результаты победителей и призеров засчитываются в качестве оценк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ы  победителей  и  призеров  чемпионатов  профессиональ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терства,    проводимых    союзом    либо    международной    организ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WorldSkills International», осваивающих образовательные программы СПО, засчитываются в качестве оценки «отлично» по демонстрационному экзамену (п.6.7 СТО ПГУ 1.05-20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293"/>
                </a:solidFill>
                <a:latin typeface="Arial"/>
                <a:ea typeface="Times New Roman"/>
              </a:rPr>
              <a:t>Применение практики (методики) как образовательной модели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Специалисты движения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WorldSkills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изучают, по каким методикам учили победителя, и предлагают эту практику как образовательную мод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Проведение чемпионатов в Росси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2012 года в нашей стране ежегодно проводятся чемпионат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«Молодые профессионалы» (WorldSkills Russia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– «олимпиада рабочих рук» – среди специалистов в возрасте 16-22 лет, обучающихся в системе профессионального 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WorldSkills Kazan 2019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мпионат мира по профессиональному мастерств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йдёт в Росси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22 по 27 августа 2019-го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Задачи кафедры «Бухгалтерский учет, налогообложение и аудит» и МК ПГУ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на 2019-2021 г.г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обретение облачного варианта автоматизированной программ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ение квалификации преподавателей по программе «Использование 1С в учебном процессе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работка новых методических указаний, пособи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ка преподавателей в качестве экспертов WorldSkills Russia разн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640" y="112392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908000" y="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  <a:ea typeface="Times New Roman"/>
              </a:rPr>
              <a:t>Представитель международного движения WorldSkills в Росси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Союз «Молодые профессионалы (Ворлдскиллс Россия)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Фрагмент перечня поручений президента РФ (март 2018 г.)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Правительству Российской Федераци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вместно с органами исполнительной власти субъектов Российской Федерации и Союзом «Агентство развития профессиональных сообществ и рабочих кадров «Молодые профессионалы (Ворлдскиллс Россия)» с учётом ранее данных поручений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обеспеч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использование в системе среднего профессионального образования стандартов «Ворлдскиллс» как базовых принципов объективной оценки результатов подготовки рабочих кадро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Фрагмент перечня поручений президента РФ (март 2018 г.)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) увеличение до 50 процентов доли организаций, которые реализуют образовательные программы среднего профессионального образования и в которых демонстрационный экзамен по стандартам «Ворлдскиллс» является одной из форм государственной итоговой аттест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лад – до 20 марта 2019 г., далее – ежегод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Нормативное регулирование проведения демонстрационного экзамена в ФГОС СПО по профессиям и специальностям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рмативное  регул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емонстрационного  экзамена в составе  ГИ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регламентировано в федеральных государственных образовательных стандартах СПО и в Порядке проведения государственной итоговой аттестации по образовательным  программам СПО (приказ Минобрнауки России от 17 ноября 2017 г. № 1138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ические рекомендации о проведении аттестации с использованием механизма демонстрационного экзамена, утвержденные распоряжением Министерства просвещения РФ от 01.04.2019 № р-4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Фрагмент ФГОС СПО 38.02.01 Экономика и бухгалтерский учет (по отраслям) (приказ Министерства образования и науки от 5 февраля 2018 №69 )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ействующем ФГОС СПО отражен формат ГИ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2.9. Государственная итоговая аттестация проводится в форме защиты выпускной квалификационной работы, которая выполняется в виде дипломной работы (дипломного проекта) и демонстрационного экзаме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Стандарт университета СТО ПГУ 1.05-201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Государственная итоговая аттестация по образовательным программам среднего профессионального образован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95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Фрагмент п.6.3 Формы государственной итоговой аттестации в соответствии с ФГОС СПО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для выпускников, осваивающих программы подготовки специалистов среднего звена –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дипломная работа (дипломный проект) и (или) демонстрационный экзам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10:36:01Z</dcterms:created>
  <dc:creator>User</dc:creator>
  <dc:description/>
  <dc:language>en-US</dc:language>
  <cp:lastModifiedBy>sviridova</cp:lastModifiedBy>
  <dcterms:modified xsi:type="dcterms:W3CDTF">2019-05-23T09:49:58Z</dcterms:modified>
  <cp:revision>314</cp:revision>
  <dc:subject/>
  <dc:title>Организация учета труда и его оплаты</dc:title>
</cp:coreProperties>
</file>