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7942E-59B8-42CA-A5DB-415E45802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56DCA-7909-4365-A57A-E0BEE1208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44283-25FE-4C02-BE2A-CC4EA4D3F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F4F6D-B31C-4004-AB74-B47581E71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5827F-86AF-45DD-9E4D-EADAC67D6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8EADE-FB8C-41AF-91DE-63F3EC9CD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B6CDF-0F93-4EC8-BA31-A5AAC3BF1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2AF33-D9DD-4C96-BB3E-A59CE6BEC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154E3-D20E-4CFF-AF16-9C2F4D22C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A834C-C37E-40F1-A810-353A5C29E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CF7C6-F0AD-485D-8BA6-333D4D663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87D1F-30B9-4F77-92E3-73B6A008F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359D5-CBF1-4137-AA7E-C72E0294FA1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s://vk.com/public131602502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57120" y="20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ТЧЕТ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 исправлению замечаний Ученого совета университета от 29.10.2018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 учебно-методической работе кафедры КиПРА за 2018-2019г.г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Заголовок 1"/>
          <p:cNvSpPr/>
          <p:nvPr/>
        </p:nvSpPr>
        <p:spPr>
          <a:xfrm>
            <a:off x="3571920" y="4643280"/>
            <a:ext cx="5286240" cy="100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ав. каф. Юрков Николай Кондратьев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Заголовок 1"/>
          <p:cNvSpPr/>
          <p:nvPr/>
        </p:nvSpPr>
        <p:spPr>
          <a:xfrm>
            <a:off x="1785960" y="5643720"/>
            <a:ext cx="528624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енза 20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28800" y="28584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Замечания и рекомендации по работе кафедры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642960" y="1214280"/>
          <a:ext cx="7786800" cy="5303880"/>
        </p:xfrm>
        <a:graphic>
          <a:graphicData uri="http://schemas.openxmlformats.org/drawingml/2006/table">
            <a:tbl>
              <a:tblPr/>
              <a:tblGrid>
                <a:gridCol w="3892680"/>
                <a:gridCol w="3894120"/>
              </a:tblGrid>
              <a:tr h="3108600">
                <a:tc>
                  <a:txBody>
                    <a:bodyPr lIns="30960" rIns="30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 Необходимо продолжить работу по разработке методических указаний к лабораторным работам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зданы и подготовлены методические указания по лабораторным работам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Элементная база и функциональные узлы информационно-измерительных и управляющих систем: учеб. Пособие /Н.В. Горячев, С.А. Бростилов, Е.Н. Кузнецов. – Пенза: Изд-во ПГУ, 2019. – 348 с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нструкторское проектирование радиоэлектронных средств: метод. Указания и задания для курсового проекта / сост.: И.Ю. Наумова, Н.В. Горячев, Н.К. Юрков. – Пенза: Изд-во ПГУ, 2019. – 56 с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ектирование аналого-цифровых устройств/ Методические указания по лабораторным работам/ Пенза. 20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хемо- и системотехника электронных средств/ Методические указания по лабораторным работам/ Пенза. 2020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5280">
                <a:tc>
                  <a:txBody>
                    <a:bodyPr lIns="30960" rIns="30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 Рекомендовано: увеличить наполнение страницы сайта кафедры актуальной и развернутой информацией в соответствии с требованиями Федеральной службы по надзору в сфере образования и науки, а также критериями мониторинга сайтов ПГУ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 странице сайта добавлена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формация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еспечено периодическое обновление страницы сайта кафедры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еречень направлений научно-исследовательской деятельности и информация о реализуемых государственных и международных проектах, грантах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мещены публикации сотрудников подразделения с открытым доступом (публикации, статьи, монографии, доклады, диссертации, презентации к лекциям, раздаточные материалы, семинары, результаты конференций, проходящих в университете и т.п.) в виде сгенерированных .pdf файлов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родолжени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857160" y="1500120"/>
          <a:ext cx="7786800" cy="4389480"/>
        </p:xfrm>
        <a:graphic>
          <a:graphicData uri="http://schemas.openxmlformats.org/drawingml/2006/table">
            <a:tbl>
              <a:tblPr/>
              <a:tblGrid>
                <a:gridCol w="3892680"/>
                <a:gridCol w="3894120"/>
              </a:tblGrid>
              <a:tr h="4389480">
                <a:tc>
                  <a:txBody>
                    <a:bodyPr lIns="30960" rIns="30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 Добавить информацию на сайт кафедры о планируемых мероприятиях по воспитательной работе со студентами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мещена информация на сайте кафедры о мероприятиях планируемых по воспитательной работе со студентами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 Знакомство студентов первого курса со структурой университета, факультета и составом кафедры КиПРА, а также о правах и обязанностях студен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 Профилактические беседы со студентами всех курсов о употреблении и распространении наркотических средств и психотропных веществ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 Информирование студентов всех курсов о противодействии терроризму и экстремистской деятельности в молодежной среде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 Профилактические беседы со студентами всех курсов по компетенции в области распространения ВИЧ-инфекции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. Информирование студентов всех курсов о толерантном отношении к студентам других национальност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. Участие студентов всех курсов в мероприятиях, посвященных празднованию Победы в ВОВ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 Профилактические беседы со студентами всех курсов о безопасном общении в социальных сетях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родолжени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428760" y="1143000"/>
          <a:ext cx="8429400" cy="2305080"/>
        </p:xfrm>
        <a:graphic>
          <a:graphicData uri="http://schemas.openxmlformats.org/drawingml/2006/table">
            <a:tbl>
              <a:tblPr/>
              <a:tblGrid>
                <a:gridCol w="4213080"/>
                <a:gridCol w="4216320"/>
              </a:tblGrid>
              <a:tr h="914400">
                <a:tc>
                  <a:txBody>
                    <a:bodyPr lIns="30960" rIns="30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 Кураторам академических групп с помощью органов студенческого самоуправления повышать количество привлеченных студентов в различные виды деятельности по внеучебной работе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трудниками кафедры организованы 6 научных кружков из них наиболее востребованы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«Технология РЭС» (руководитель Юрков Н.К.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«Информатика» (руководитель Кочегаров И.И.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90680">
                <a:tc>
                  <a:txBody>
                    <a:bodyPr lIns="30960" rIns="30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. Для поддержания на высоком уровне воспитательной работы кафедры рекомендуется проводить систематическую работу по своевременному информированию студентов академических групп через информационные стенды и сайт кафедры о возможности их участия по всем видам форм воспитательной работы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marL="228600" indent="-22860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здана официальная страница в «Контакте» которая дублирует сайт кафедры и необходима для своевременного информирования студентов о проводимых мероприятиях </a:t>
                      </a:r>
                      <a:r>
                        <a:rPr b="0" lang="en-US" sz="12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hlinkClick r:id="rId1"/>
                        </a:rPr>
                        <a:t>https://vk.com/public1316025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57200" y="1599840"/>
            <a:ext cx="8229600" cy="21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жегодно проводится день кафедры, который позволяет познакомить студентов первого курса с традициями кафедры и ее преподавателя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водятся на постоянной основе экскурсии на предприятия  г. Пензы и Пензенской области таких как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О «НИИФ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О «Рубин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О «Радиозавод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О «НИИЭМП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. Ежегодно проводится международный симпозиум  «Надежность и Качество», где студенты выступают с научными доклад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5. Ежегодно проводятся экскурсии по культурно-историческим местам г. Пенз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1-18T05:58:05Z</dcterms:created>
  <dc:creator>Сергей</dc:creator>
  <dc:description/>
  <dc:language>en-US</dc:language>
  <cp:lastModifiedBy>Сергей</cp:lastModifiedBy>
  <dcterms:modified xsi:type="dcterms:W3CDTF">2020-01-21T12:49:22Z</dcterms:modified>
  <cp:revision>46</cp:revision>
  <dc:subject/>
  <dc:title>Слайд 1</dc:title>
</cp:coreProperties>
</file>